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421-510A-43D2-9DA4-BADBA8A2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77C-DC09-4AB0-BAAC-7026F124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E8D-565A-4A53-9294-1F3EFC20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FCC-7B2A-4CE9-BE8A-5285CC19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A169-1C6C-4EBF-80FD-1EAD9CC3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16D5-0222-4F2C-B94E-F5717F70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7628-2839-4C0A-BB9A-0DC330CA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183C-23FA-4586-ACD1-455C44A3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E82A-D1D1-48AD-8852-2B37FAD6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6921-D4E5-4870-B83C-F341BED2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93B4-4650-4667-8CD5-D27B1252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2E9-1019-4467-B452-610C6553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6C6B-83AE-4964-9B11-9E6DCB70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F67B-A3D9-4C0F-AC7E-2A24CD7F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2758-8D6A-47D6-AE5B-EBEFF7A2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259B-09B2-42F4-BFF1-45F513A5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90FD-0C47-42C8-B403-36AB0E24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9EE-C5E1-4AAF-81B7-D0522A56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7A9-3DF2-4410-8D28-CB1E1896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0BF-939F-4A96-A55B-429D1921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2D6-AC55-45B6-9EA5-659AAE8C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F3D-C1E4-4A72-A0BE-B536B166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6E2-0919-4999-8605-0A37A5B9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9C8-5A19-4A7F-A92F-43AB31FC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00A2-E7A8-4A6C-ADF6-85D55EE0D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C411-06FC-4585-9A92-6593DF490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vermont.shtml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nchantedlearning.com/usa/states/vermont/" TargetMode="External"/><Relationship Id="rId4" Type="http://schemas.openxmlformats.org/officeDocument/2006/relationships/hyperlink" Target="http://www.enchantedlearning.com/usa/flags/vermont/vermontflag.shtml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enchantedlearning.com/usa/states/vermont/" TargetMode="External"/><Relationship Id="rId7" Type="http://schemas.openxmlformats.org/officeDocument/2006/relationships/hyperlink" Target="http://www.enchantedlearning.com/usa/states/vermont/" TargetMode="External"/><Relationship Id="rId8" Type="http://schemas.openxmlformats.org/officeDocument/2006/relationships/hyperlink" Target="http://www.enchantedlearning.com/usa/states/vermont/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629400" y="518148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in 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7-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800" y="380880"/>
            <a:ext cx="457200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b76a03"/>
                    </a:gs>
                  </a:gsLst>
                  <a:lin ang="5400000"/>
                </a:gradFill>
                <a:latin typeface="Arial Black"/>
              </a:rPr>
              <a:t>Verm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b76a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948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5181480"/>
            <a:ext cx="32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owa Song ; Fifty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Iowa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ct. 25, 2011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fiftystat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ital: Mountpe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ulation: 608,8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ed the Union: March 4, 1791,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to: Freedom and Un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name: Green Mountain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er: Red Cl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rd: Hermit Thru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g: “Hail Vermo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 Behind Name: “Verts Monts” French for Green mount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esting Facts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mallest state (in population). Many people come for the minerals found in the mount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0"/>
            <a:ext cx="2590920" cy="6400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24080" y="5254560"/>
            <a:ext cx="2895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mo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ctober 18, 2011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http://www.enchantedlearning.com/usa/states/vermont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 map showing the mountains and cities of Vermo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198108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5880" y="4572000"/>
            <a:ext cx="30481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mo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ctober 18, 2011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www.enchantedlearning.com/usa/states/vermont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10666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 picture of the flag of Vermo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3705480" cy="3294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8120" y="4952880"/>
            <a:ext cx="30477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chanted Learning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mo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ctober 18, 2011, http://www.enchantedlearning.com/usa/states/vermont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 picture of Vermont’s state insect, the honey b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762120" y="609480"/>
            <a:ext cx="7315200" cy="5105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22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 picture of a bridge that was made of marble in Vermo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80392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st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mo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ct. 25, 11, http://www.postcardsfrom.com/t1/971029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1Z</dcterms:created>
  <dc:creator>install</dc:creator>
  <dc:description/>
  <dc:language>en-US</dc:language>
  <cp:lastModifiedBy>install</cp:lastModifiedBy>
  <dcterms:modified xsi:type="dcterms:W3CDTF">2011-10-27T13:10:19Z</dcterms:modified>
  <cp:revision>8</cp:revision>
  <dc:subject/>
  <dc:title>Slide 1</dc:title>
</cp:coreProperties>
</file>